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55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956B5-D6F4-419F-A515-8F5928FD95A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CEB96-23D9-4228-B3BD-97B9ECCC2A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2812B-7E2E-4D0D-8BE9-D5A39CA28BF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454D5-4A8D-4D80-9587-D5632A15229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C91AF-00D2-43A5-B4F1-591B86C56B8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7E9F2-8186-4104-AA4B-E3280E4B5E8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CA02D-4460-4EEE-B3E5-0A3678BC01A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0B0EF-5348-41D7-B28B-5C0EAB175DD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38F62-117A-48DC-BE15-6FBF89F6EEA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F12EE-4A8D-4EE8-B3BC-7918CF7243C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49828-52B3-4E0A-8B3C-336B8EE3A95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C1EB1-6DB9-4030-827E-96C62A9ED9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EA6E-4F6B-42E2-90AE-25460DD4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06E9-9379-4BD3-95BB-0C1FA659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BF13-B7CF-4541-A13B-22E12785B2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E40E-63A4-4781-B6D4-C21A7E10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546E-26A0-41A7-9EE0-B899E923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B61A3-1BEA-473B-AEE1-A3741714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32CE6-EC5B-40E1-8FAA-F09E73B4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37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4D875-D111-482C-AAC3-D34EA268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CCAD-D771-4EE6-B0B4-4CCC06D3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21F11-56BA-4D5C-958D-13C83ED5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209C1-348D-4ECB-B042-23A96626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9389F2-6DD6-4E8A-AFCB-1DA2008166E0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REPRODUCCIÓN ASEXUAL EN JARDINER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984240" y="90360"/>
            <a:ext cx="79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reproducción asexual en jardiner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20 Grupo"/>
          <p:cNvGrpSpPr/>
          <p:nvPr/>
        </p:nvGrpSpPr>
        <p:grpSpPr>
          <a:xfrm>
            <a:off x="1979640" y="1125360"/>
            <a:ext cx="5400720" cy="1225800"/>
            <a:chOff x="1979640" y="1125360"/>
            <a:chExt cx="5400720" cy="1225800"/>
          </a:xfrm>
        </p:grpSpPr>
        <p:sp>
          <p:nvSpPr>
            <p:cNvPr id="70" name="AutoShape 6"/>
            <p:cNvSpPr/>
            <p:nvPr/>
          </p:nvSpPr>
          <p:spPr>
            <a:xfrm>
              <a:off x="1979640" y="1125360"/>
              <a:ext cx="5400720" cy="1225800"/>
            </a:xfrm>
            <a:prstGeom prst="roundRect">
              <a:avLst>
                <a:gd name="adj" fmla="val 16667"/>
              </a:avLst>
            </a:prstGeom>
            <a:solidFill>
              <a:srgbClr val="94bd5e"/>
            </a:solidFill>
            <a:ln w="38160">
              <a:solidFill>
                <a:srgbClr val="355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2148120" y="1341000"/>
              <a:ext cx="489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N JARDINERÍA SE APROVECHA LA REPRODUCCIÓN ASEXUAL DE LAS PLANTAS PARA PROPAGARL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21 Grupo"/>
          <p:cNvGrpSpPr/>
          <p:nvPr/>
        </p:nvGrpSpPr>
        <p:grpSpPr>
          <a:xfrm>
            <a:off x="1403280" y="4076640"/>
            <a:ext cx="1873440" cy="1081080"/>
            <a:chOff x="1403280" y="4076640"/>
            <a:chExt cx="1873440" cy="1081080"/>
          </a:xfrm>
        </p:grpSpPr>
        <p:sp>
          <p:nvSpPr>
            <p:cNvPr id="73" name="AutoShape 12"/>
            <p:cNvSpPr/>
            <p:nvPr/>
          </p:nvSpPr>
          <p:spPr>
            <a:xfrm>
              <a:off x="1476000" y="4076640"/>
              <a:ext cx="1752480" cy="1081080"/>
            </a:xfrm>
            <a:prstGeom prst="roundRect">
              <a:avLst>
                <a:gd name="adj" fmla="val 16667"/>
              </a:avLst>
            </a:prstGeom>
            <a:solidFill>
              <a:srgbClr val="94bd5e"/>
            </a:solidFill>
            <a:ln w="38160">
              <a:solidFill>
                <a:srgbClr val="355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1403280" y="4282200"/>
              <a:ext cx="187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PROPAGACIÓN POR ESQUEJ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22 Grupo"/>
          <p:cNvGrpSpPr/>
          <p:nvPr/>
        </p:nvGrpSpPr>
        <p:grpSpPr>
          <a:xfrm>
            <a:off x="3635280" y="4076640"/>
            <a:ext cx="1951200" cy="1081080"/>
            <a:chOff x="3635280" y="4076640"/>
            <a:chExt cx="1951200" cy="1081080"/>
          </a:xfrm>
        </p:grpSpPr>
        <p:sp>
          <p:nvSpPr>
            <p:cNvPr id="76" name="AutoShape 14"/>
            <p:cNvSpPr/>
            <p:nvPr/>
          </p:nvSpPr>
          <p:spPr>
            <a:xfrm>
              <a:off x="3697920" y="4076640"/>
              <a:ext cx="1741680" cy="1081080"/>
            </a:xfrm>
            <a:prstGeom prst="roundRect">
              <a:avLst>
                <a:gd name="adj" fmla="val 16667"/>
              </a:avLst>
            </a:prstGeom>
            <a:solidFill>
              <a:srgbClr val="94bd5e"/>
            </a:solidFill>
            <a:ln w="38160">
              <a:solidFill>
                <a:srgbClr val="355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3635280" y="4293000"/>
              <a:ext cx="195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PROPAGACIÓN POR INJER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Freeform 8"/>
          <p:cNvSpPr/>
          <p:nvPr/>
        </p:nvSpPr>
        <p:spPr>
          <a:xfrm>
            <a:off x="2268360" y="3789360"/>
            <a:ext cx="1800" cy="314280"/>
          </a:xfrm>
          <a:custGeom>
            <a:avLst/>
            <a:gdLst>
              <a:gd name="textAreaLeft" fmla="*/ 0 w 1800"/>
              <a:gd name="textAreaRight" fmla="*/ 2160 w 18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6" h="874">
                <a:moveTo>
                  <a:pt x="0" y="873"/>
                </a:moveTo>
                <a:lnTo>
                  <a:pt x="5" y="0"/>
                </a:lnTo>
              </a:path>
            </a:pathLst>
          </a:custGeom>
          <a:noFill/>
          <a:ln w="25560">
            <a:solidFill>
              <a:srgbClr val="355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Freeform 9"/>
          <p:cNvSpPr/>
          <p:nvPr/>
        </p:nvSpPr>
        <p:spPr>
          <a:xfrm>
            <a:off x="4572000" y="3789360"/>
            <a:ext cx="1440" cy="314280"/>
          </a:xfrm>
          <a:custGeom>
            <a:avLst/>
            <a:gdLst>
              <a:gd name="textAreaLeft" fmla="*/ 0 w 1440"/>
              <a:gd name="textAreaRight" fmla="*/ 1800 w 14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6" h="874">
                <a:moveTo>
                  <a:pt x="0" y="873"/>
                </a:moveTo>
                <a:lnTo>
                  <a:pt x="5" y="0"/>
                </a:lnTo>
              </a:path>
            </a:pathLst>
          </a:custGeom>
          <a:noFill/>
          <a:ln w="25560">
            <a:solidFill>
              <a:srgbClr val="355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Freeform 10"/>
          <p:cNvSpPr/>
          <p:nvPr/>
        </p:nvSpPr>
        <p:spPr>
          <a:xfrm>
            <a:off x="4572000" y="2349360"/>
            <a:ext cx="1440" cy="393840"/>
          </a:xfrm>
          <a:custGeom>
            <a:avLst/>
            <a:gdLst>
              <a:gd name="textAreaLeft" fmla="*/ 0 w 1440"/>
              <a:gd name="textAreaRight" fmla="*/ 1800 w 144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5" h="1095">
                <a:moveTo>
                  <a:pt x="0" y="0"/>
                </a:moveTo>
                <a:lnTo>
                  <a:pt x="4" y="1094"/>
                </a:lnTo>
              </a:path>
            </a:pathLst>
          </a:custGeom>
          <a:noFill/>
          <a:ln w="25560">
            <a:solidFill>
              <a:srgbClr val="355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23 Grupo"/>
          <p:cNvGrpSpPr/>
          <p:nvPr/>
        </p:nvGrpSpPr>
        <p:grpSpPr>
          <a:xfrm>
            <a:off x="5867280" y="4076640"/>
            <a:ext cx="1773360" cy="1081080"/>
            <a:chOff x="5867280" y="4076640"/>
            <a:chExt cx="1773360" cy="1081080"/>
          </a:xfrm>
        </p:grpSpPr>
        <p:sp>
          <p:nvSpPr>
            <p:cNvPr id="82" name="AutoShape 17"/>
            <p:cNvSpPr/>
            <p:nvPr/>
          </p:nvSpPr>
          <p:spPr>
            <a:xfrm>
              <a:off x="5892480" y="4076640"/>
              <a:ext cx="1748160" cy="1081080"/>
            </a:xfrm>
            <a:prstGeom prst="roundRect">
              <a:avLst>
                <a:gd name="adj" fmla="val 16667"/>
              </a:avLst>
            </a:prstGeom>
            <a:solidFill>
              <a:srgbClr val="94bd5e"/>
            </a:solidFill>
            <a:ln w="38160">
              <a:solidFill>
                <a:srgbClr val="355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5867280" y="4293000"/>
              <a:ext cx="177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PROPAGACIÓN POR ACOD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Text Box 19"/>
          <p:cNvSpPr/>
          <p:nvPr/>
        </p:nvSpPr>
        <p:spPr>
          <a:xfrm>
            <a:off x="1476360" y="5589720"/>
            <a:ext cx="55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35 Conector recto"/>
          <p:cNvSpPr/>
          <p:nvPr/>
        </p:nvSpPr>
        <p:spPr>
          <a:xfrm>
            <a:off x="2268360" y="3789360"/>
            <a:ext cx="446436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36 CuadroTexto"/>
          <p:cNvSpPr/>
          <p:nvPr/>
        </p:nvSpPr>
        <p:spPr>
          <a:xfrm>
            <a:off x="2916360" y="2781360"/>
            <a:ext cx="33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o se lleva a cabo por varios métodos: destacan t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41 Conector recto"/>
          <p:cNvSpPr/>
          <p:nvPr/>
        </p:nvSpPr>
        <p:spPr>
          <a:xfrm>
            <a:off x="4572000" y="3500280"/>
            <a:ext cx="0" cy="57636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45 Conector recto"/>
          <p:cNvSpPr/>
          <p:nvPr/>
        </p:nvSpPr>
        <p:spPr>
          <a:xfrm>
            <a:off x="6732720" y="3789360"/>
            <a:ext cx="0" cy="28728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203640" y="2590920"/>
            <a:ext cx="2555640" cy="3240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984240" y="90360"/>
            <a:ext cx="77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reproducción asexual en jardiner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934920" y="1347840"/>
            <a:ext cx="81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ste en cortar, de la planta progenitora, un trozo del tallo con yemas (un esqueje). Este se entierra o se mete en agua hasta que echa raíces, y así obtenemos una nueva pla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900000" y="9079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ropagación por esquej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258920" y="2995560"/>
            <a:ext cx="1395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Se corta una pequeña rama con yemas, de la planta progenitora (esqueje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10"/>
          <p:cNvSpPr/>
          <p:nvPr/>
        </p:nvSpPr>
        <p:spPr>
          <a:xfrm>
            <a:off x="2414520" y="4197240"/>
            <a:ext cx="1738440" cy="1536840"/>
          </a:xfrm>
          <a:custGeom>
            <a:avLst/>
            <a:gdLst>
              <a:gd name="textAreaLeft" fmla="*/ 0 w 1738440"/>
              <a:gd name="textAreaRight" fmla="*/ 1738800 w 1738440"/>
              <a:gd name="textAreaTop" fmla="*/ 0 h 1536840"/>
              <a:gd name="textAreaBottom" fmla="*/ 1537200 h 1536840"/>
            </a:gdLst>
            <a:ahLst/>
            <a:rect l="textAreaLeft" t="textAreaTop" r="textAreaRight" b="textAreaBottom"/>
            <a:pathLst>
              <a:path w="4830" h="4270">
                <a:moveTo>
                  <a:pt x="0" y="0"/>
                </a:moveTo>
                <a:lnTo>
                  <a:pt x="4829" y="426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299280" y="2565360"/>
            <a:ext cx="162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El esqueje se entierra y enraíza, formando así una nueva plan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12"/>
          <p:cNvSpPr/>
          <p:nvPr/>
        </p:nvSpPr>
        <p:spPr>
          <a:xfrm>
            <a:off x="5043600" y="3411360"/>
            <a:ext cx="1271520" cy="39384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3533" h="1095">
                <a:moveTo>
                  <a:pt x="3532" y="0"/>
                </a:moveTo>
                <a:lnTo>
                  <a:pt x="0" y="10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3060720" y="2519280"/>
            <a:ext cx="2519280" cy="3618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reproducción asexual en jardiner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34920" y="1347840"/>
            <a:ext cx="770580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injertos son fragmentos de tallos que se unen al tallo de otra planta de una especie parec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ele usarse mucho en árboles frut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ropagación por injer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755640" y="2997360"/>
            <a:ext cx="223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En el tallo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lanta receptora hacemos un cort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onde podamos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troducir el tallo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lanta donan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2414520" y="4197240"/>
            <a:ext cx="1006560" cy="30168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797" h="839">
                <a:moveTo>
                  <a:pt x="0" y="0"/>
                </a:moveTo>
                <a:lnTo>
                  <a:pt x="2796" y="8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299280" y="2854440"/>
            <a:ext cx="180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El corte cicatriza y la nueva rama forma ya parte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lanta receptor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12"/>
          <p:cNvSpPr/>
          <p:nvPr/>
        </p:nvSpPr>
        <p:spPr>
          <a:xfrm>
            <a:off x="5043600" y="3411360"/>
            <a:ext cx="1271520" cy="39384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3533" h="1095">
                <a:moveTo>
                  <a:pt x="3532" y="0"/>
                </a:moveTo>
                <a:lnTo>
                  <a:pt x="0" y="10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1979640" y="3573360"/>
            <a:ext cx="4824360" cy="21607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reproducción asexual en jardiner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34920" y="1347840"/>
            <a:ext cx="820908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esta técnica se forman nuevas plantas a partir de una ram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 planta progenitora. Consiste en doblar una rama de esta planta hasta que queda parcialmente enterrada en el sue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vez que la rama enterrada enraíza, se separa de la planta progenitora y forma una nueva pla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ropagación por ac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95280" y="3716280"/>
            <a:ext cx="1655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Se dobla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na rama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lanta progenitora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sta qu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enterramos parcialmen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1692360" y="4508640"/>
            <a:ext cx="2965320" cy="806400"/>
          </a:xfrm>
          <a:custGeom>
            <a:avLst/>
            <a:gdLst>
              <a:gd name="textAreaLeft" fmla="*/ 0 w 2965320"/>
              <a:gd name="textAreaRight" fmla="*/ 2965680 w 296532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7242" h="4041">
                <a:moveTo>
                  <a:pt x="0" y="0"/>
                </a:moveTo>
                <a:lnTo>
                  <a:pt x="7241" y="40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199280" y="4387680"/>
            <a:ext cx="162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Una vez enraíza, se separa la nueva planta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rogenitor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12"/>
          <p:cNvSpPr/>
          <p:nvPr/>
        </p:nvSpPr>
        <p:spPr>
          <a:xfrm>
            <a:off x="5867280" y="4869000"/>
            <a:ext cx="1436760" cy="23796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3992" h="662">
                <a:moveTo>
                  <a:pt x="3991" y="0"/>
                </a:moveTo>
                <a:lnTo>
                  <a:pt x="0" y="66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05:28Z</dcterms:modified>
  <cp:revision>54</cp:revision>
  <dc:subject/>
  <dc:title>Diapositiva 1</dc:title>
</cp:coreProperties>
</file>